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8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15.wmf" ContentType="image/x-wmf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2BD95-7DBB-4BFE-9138-8FFA2B350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4BD35-3D5D-4442-ACF6-AB81EAFEC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7E85D-D935-4F88-ACD4-72162FE2D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56B5B-EA35-4622-BE60-373C26E08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A32CE-5103-47B1-A95D-A08419C96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47079-D509-4397-81FB-7D9B98D9F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9AF8B-7D46-45A7-9056-6B457DAC8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6BDE3-E157-4CBF-A9FE-AE9FE802E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19A6D-6341-4378-ACE5-479BEC03D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5DC5A-9D96-4CC4-B1C2-C85486528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80E69-C2E8-4561-A61E-090157A2E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EFAC8-1971-4B14-936A-21F9BFD7E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D587F-1481-4C53-BA9B-B198B7628B28}" type="slidenum">
              <a:rPr b="0" lang="en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youtube.com/watch?v=5s5EvhHy7eQ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bay.ca/sch/i.html?rt=nc&amp;LH_PrefLoc=2&amp;LH_BIN=1&amp;_nkw=camera%20tripod&amp;_ds=1&amp;_fcid=2&amp;_fln=1&amp;_localstpos=M6N5G3&amp;_sc=1&amp;_sop=15&amp;_stpos=M6N5G3&amp;_trksid=p3286.c0.m283&amp;gbr=1" TargetMode="External"/><Relationship Id="rId2" Type="http://schemas.openxmlformats.org/officeDocument/2006/relationships/hyperlink" Target="http://www.dealextreme.com/p/universal-clamp-mount-for-tripods-holds-up-to-3-8cm-thick-objects-14150" TargetMode="External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bay.ca/sch/i.html?_nkw=bluetooth+adapter&amp;_sacat=0&amp;_stpos=M6N5G3&amp;LH_BIN=1&amp;_sop=15&amp;gbr=1&amp;LH_PrefLoc=2&amp;_dmpt=Apparel_Merchandise&amp;_odkw=mic+clamp&amp;_osacat=0&amp;_trksid=p3286.c0.m270.l1313" TargetMode="Externa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wiimoteproject.com/index.php?action=downloads;sa=view;down=34" TargetMode="External"/><Relationship Id="rId2" Type="http://schemas.openxmlformats.org/officeDocument/2006/relationships/hyperlink" Target="http://www.uweschmidt.org/wiimote-whiteboard" TargetMode="External"/><Relationship Id="rId3" Type="http://schemas.openxmlformats.org/officeDocument/2006/relationships/hyperlink" Target="http://www.uweschmidt.org/wiimote-whiteboard" TargetMode="External"/><Relationship Id="rId4" Type="http://schemas.openxmlformats.org/officeDocument/2006/relationships/hyperlink" Target="http://www.smoothboard.net/register" TargetMode="Externa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4400" spc="-1" strike="noStrike">
                <a:solidFill>
                  <a:srgbClr val="000000"/>
                </a:solidFill>
                <a:latin typeface="Comic Sans MS"/>
              </a:rPr>
              <a:t>An Intro </a:t>
            </a:r>
            <a:br>
              <a:rPr sz="4400"/>
            </a:br>
            <a:r>
              <a:rPr b="0" i="1" lang="en-CA" sz="4400" spc="-1" strike="noStrike">
                <a:solidFill>
                  <a:srgbClr val="000000"/>
                </a:solidFill>
                <a:latin typeface="Comic Sans MS"/>
              </a:rPr>
              <a:t>to</a:t>
            </a:r>
            <a:br>
              <a:rPr sz="4400"/>
            </a:br>
            <a:r>
              <a:rPr b="0" i="1" lang="en-CA" sz="4400" spc="-1" strike="noStrike">
                <a:solidFill>
                  <a:srgbClr val="000000"/>
                </a:solidFill>
                <a:latin typeface="Comic Sans MS"/>
              </a:rPr>
              <a:t> WiiMote WhiteBoar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4076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898989"/>
                </a:solidFill>
                <a:latin typeface="Calibri"/>
              </a:rPr>
              <a:t>By Erion and Rink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5003640" y="4005360"/>
            <a:ext cx="3395880" cy="23716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Intro to the WiiBoar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Open Source code from Johnny Chung Lee, Carnegie Mellon Universit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Video: </a:t>
            </a:r>
            <a:r>
              <a:rPr b="0" lang="en-CA" sz="25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www.youtube.com/watch?v=5s5EvhHy7eQ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Recipe for a WiiBoar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1 (or 2) Wii Remo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Calibri"/>
              </a:rPr>
              <a:t>Original Wii Remot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Calibri"/>
              </a:rPr>
              <a:t>Wii Motion Plus Remote pre - Nov 201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Calibri"/>
              </a:rPr>
              <a:t>Post Nov-2011 Wii Motion Plus remotes will not wor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CA" sz="1500" spc="-1" strike="noStrike">
                <a:solidFill>
                  <a:srgbClr val="000000"/>
                </a:solidFill>
                <a:latin typeface="Calibri"/>
              </a:rPr>
              <a:t>PC recognizes as RVL-CNT-01-TR instead of RVL-CNT-01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000000"/>
                </a:solidFill>
                <a:latin typeface="Calibri"/>
              </a:rPr>
              <a:t>Code under battery cover  says LMB-RVL-WR followed by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37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CA" sz="1500" spc="-1" strike="noStrike">
                <a:solidFill>
                  <a:srgbClr val="000000"/>
                </a:solidFill>
                <a:latin typeface="Calibri"/>
              </a:rPr>
              <a:t>Z-C4 or Z-C6 or C-C4 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2) Clips and Sta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900" spc="-1" strike="noStrike">
                <a:solidFill>
                  <a:srgbClr val="000000"/>
                </a:solidFill>
                <a:latin typeface="Calibri"/>
              </a:rPr>
              <a:t>Stand Source: </a:t>
            </a:r>
            <a:r>
              <a:rPr b="0" lang="en-CA" sz="19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Ebay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900" spc="-1" strike="noStrike">
                <a:solidFill>
                  <a:srgbClr val="000000"/>
                </a:solidFill>
                <a:latin typeface="Calibri"/>
              </a:rPr>
              <a:t>Clip source: Ebay or </a:t>
            </a:r>
            <a:r>
              <a:rPr b="0" lang="en-CA" sz="19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DX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2" descr=""/>
          <p:cNvPicPr/>
          <p:nvPr/>
        </p:nvPicPr>
        <p:blipFill>
          <a:blip r:embed="rId3"/>
          <a:stretch/>
        </p:blipFill>
        <p:spPr>
          <a:xfrm>
            <a:off x="6804000" y="155736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" descr=""/>
          <p:cNvPicPr/>
          <p:nvPr/>
        </p:nvPicPr>
        <p:blipFill>
          <a:blip r:embed="rId4"/>
          <a:stretch/>
        </p:blipFill>
        <p:spPr>
          <a:xfrm>
            <a:off x="4211640" y="4149720"/>
            <a:ext cx="1333440" cy="13334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"/>
          <p:cNvPicPr/>
          <p:nvPr/>
        </p:nvPicPr>
        <p:blipFill>
          <a:blip r:embed="rId5"/>
          <a:stretch/>
        </p:blipFill>
        <p:spPr>
          <a:xfrm>
            <a:off x="5940360" y="4149720"/>
            <a:ext cx="1181160" cy="13334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"/>
          <p:cNvPicPr/>
          <p:nvPr/>
        </p:nvPicPr>
        <p:blipFill>
          <a:blip r:embed="rId6"/>
          <a:stretch/>
        </p:blipFill>
        <p:spPr>
          <a:xfrm>
            <a:off x="7451640" y="4149720"/>
            <a:ext cx="895320" cy="13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Recipe for a WiiBoard cnt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3) A bluetooth adap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Source: </a:t>
            </a:r>
            <a:r>
              <a:rPr b="0" lang="en-CA" sz="2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Eba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4) An Infrared P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2"/>
          <a:stretch/>
        </p:blipFill>
        <p:spPr>
          <a:xfrm>
            <a:off x="6516720" y="1700280"/>
            <a:ext cx="1333440" cy="13334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" descr=""/>
          <p:cNvPicPr/>
          <p:nvPr/>
        </p:nvPicPr>
        <p:blipFill>
          <a:blip r:embed="rId3"/>
          <a:stretch/>
        </p:blipFill>
        <p:spPr>
          <a:xfrm>
            <a:off x="1908000" y="3789360"/>
            <a:ext cx="2303640" cy="10033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"/>
          <p:cNvPicPr/>
          <p:nvPr/>
        </p:nvPicPr>
        <p:blipFill>
          <a:blip r:embed="rId4"/>
          <a:stretch/>
        </p:blipFill>
        <p:spPr>
          <a:xfrm>
            <a:off x="5796000" y="3860640"/>
            <a:ext cx="1944720" cy="9367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"/>
          <p:cNvPicPr/>
          <p:nvPr/>
        </p:nvPicPr>
        <p:blipFill>
          <a:blip r:embed="rId5"/>
          <a:stretch/>
        </p:blipFill>
        <p:spPr>
          <a:xfrm>
            <a:off x="611280" y="5300640"/>
            <a:ext cx="1944720" cy="6382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6" descr=""/>
          <p:cNvPicPr/>
          <p:nvPr/>
        </p:nvPicPr>
        <p:blipFill>
          <a:blip r:embed="rId6"/>
          <a:stretch/>
        </p:blipFill>
        <p:spPr>
          <a:xfrm>
            <a:off x="3203640" y="5300640"/>
            <a:ext cx="1800000" cy="6494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7" descr=""/>
          <p:cNvPicPr/>
          <p:nvPr/>
        </p:nvPicPr>
        <p:blipFill>
          <a:blip r:embed="rId7"/>
          <a:stretch/>
        </p:blipFill>
        <p:spPr>
          <a:xfrm>
            <a:off x="5651640" y="5157720"/>
            <a:ext cx="1657080" cy="9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Recipe for a WiiBoard cnt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5) Whiteboard Softwa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Calibri"/>
              </a:rPr>
              <a:t>Johny Chung Lee’s </a:t>
            </a:r>
            <a:r>
              <a:rPr b="0" lang="en-CA" sz="2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iiMote WhiteBoard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 (Fre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Java WiiMote WhiteBoard</a:t>
            </a:r>
            <a:r>
              <a:rPr b="1" lang="en-CA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(Fre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Needs alternative Bluetooth stac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GTK Python Whiteboard</a:t>
            </a:r>
            <a:r>
              <a:rPr b="1" lang="en-CA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(Fre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Calibri"/>
              </a:rPr>
              <a:t>SmoothBoar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indows PC License</a:t>
            </a: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 ($29.99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Mac PC License ($24.99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Windows Dongle License ($79.99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Recipe for a WiiBoard cnt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Optional Accesso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Wii Sensor Bar (wireles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WiiMote Rechargeable Battery Pack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Tripod/Mic Stand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6804000" y="1773360"/>
            <a:ext cx="1427040" cy="7189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" descr=""/>
          <p:cNvPicPr/>
          <p:nvPr/>
        </p:nvPicPr>
        <p:blipFill>
          <a:blip r:embed="rId2"/>
          <a:stretch/>
        </p:blipFill>
        <p:spPr>
          <a:xfrm>
            <a:off x="6948360" y="2997360"/>
            <a:ext cx="1503360" cy="1719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4" descr=""/>
          <p:cNvPicPr/>
          <p:nvPr/>
        </p:nvPicPr>
        <p:blipFill>
          <a:blip r:embed="rId3"/>
          <a:stretch/>
        </p:blipFill>
        <p:spPr>
          <a:xfrm>
            <a:off x="4716360" y="3789360"/>
            <a:ext cx="1676520" cy="27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Using SmoothBoar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Video: http://www.youtube.com/watch?v=YMJzVkCUCmI&amp;feature=player_embedd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The Fu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68000" y="1267920"/>
            <a:ext cx="75596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Finger Track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Head Track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What’s Next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Live Human-Machine Interaction 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500" spc="-1" strike="noStrike">
                <a:solidFill>
                  <a:srgbClr val="000000"/>
                </a:solidFill>
                <a:latin typeface="Calibri"/>
              </a:rPr>
              <a:t>From Wikipedia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5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i="1" lang="en-CA" sz="2500" spc="-1" strike="noStrike">
                <a:solidFill>
                  <a:srgbClr val="000000"/>
                </a:solidFill>
                <a:latin typeface="Calibri"/>
              </a:rPr>
              <a:t>Johnny Chung Lee is a Human-Computer Interaction researcher currently working at Google”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2" descr="C:\Users\Admin\AppData\Local\Microsoft\Windows\Temporary Internet Files\Content.IE5\H6BD0IIO\MC900230510[1].wmf"/>
          <p:cNvPicPr/>
          <p:nvPr/>
        </p:nvPicPr>
        <p:blipFill>
          <a:blip r:embed="rId1"/>
          <a:stretch/>
        </p:blipFill>
        <p:spPr>
          <a:xfrm>
            <a:off x="6659640" y="1773360"/>
            <a:ext cx="2089080" cy="26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3T08:16:41Z</dcterms:created>
  <dc:creator>Admin</dc:creator>
  <dc:description/>
  <dc:language>en-US</dc:language>
  <cp:lastModifiedBy>Admin</cp:lastModifiedBy>
  <dcterms:modified xsi:type="dcterms:W3CDTF">2012-04-16T23:05:48Z</dcterms:modified>
  <cp:revision>11</cp:revision>
  <dc:subject/>
  <dc:title>Slide 1</dc:title>
</cp:coreProperties>
</file>